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516-6E3D-439E-86E9-6173DC9C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FC9-249C-4E3E-A4D0-905AFCB1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BCA9-59FA-4E31-A82E-45AE4CD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0690A-C775-4292-98CA-DE1EA6F8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24C01-08DD-4529-8974-C10ADAFF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6D88A-F7DF-43A5-8E74-9C4BCCA0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E054C-3A63-46A6-8ECD-B59764C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2C862-1F59-49EE-8157-851E10F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0666B-5F03-413F-8922-D1A66C8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5AED5-8A96-424C-B4A2-BC15B3AF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5E836-ECE3-465F-9BE6-6248C2C5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871B9-234C-4C14-AF6F-B85F9D48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474-A544-4763-B0A7-01756FAD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0328D-DF99-4292-8378-00BA4E2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413CD-614E-4448-9FEA-D9D4F586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81F87-B7AB-4ACF-B29A-13606D6C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5D18B-5185-4CA4-B247-44BF3253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6C18F-7888-446A-96AC-C304B96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EF925-417B-4CEC-9C68-3D2A782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8D4C6-0ED6-4DE1-A116-9FCCC63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0D53C-E6A7-4EF2-BA54-3045C2E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4BA2C-CC05-46D5-B43F-43FCC2A8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97A11-C3A8-436C-BBC3-A3D881C2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29E-DDB0-4A91-ACB7-646B6F6B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F1E30-8154-4552-A042-B01A2BB3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3080-18C9-463A-A2D7-EC3E3F0B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A2FF0-D01B-4A91-A90C-54C9A66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068B7-CCE3-418F-BD26-917E83E4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C7E3-25EC-4209-82C8-7270B8F6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3F3C6-0FD8-4B9E-B131-ECD9CD3C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5377A-22E8-48BC-8CA4-0E1D5170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52081-A81A-470F-A094-22D7C57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DD817-71D5-45A4-B727-DF3511B5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34E1F-1E4A-4D0A-8A91-37AF3C8C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CD2A-9CAD-4187-8540-F119087C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C18B8-BE24-45CE-8D26-B3624D9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1777E-58AA-4875-B4BD-443E5343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079D2-8D64-4EF2-A485-A277AC59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79049-A6C3-4A0B-AD1F-471FC9CA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03EDD-9BE1-4FD9-9CAA-0F262CFA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801A0-3208-406D-86ED-FDAC51CC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78030-973C-41A6-9D10-112140A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F788C-BBFB-44B8-8670-64751CF0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C8CB0-4DE9-4D97-94C6-DDF2159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D8555-22E7-474B-B09B-EF4114FC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D989-30D3-4B73-A55E-070AD313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5BEB5-FA7A-4334-AF16-1175EE3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95ECE-E815-4033-8C5C-41AA4E6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1C8FF-3F2F-4963-B58D-022FBD73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9795A-00D0-449A-A6EC-7217D7FF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39F23-18AD-499A-B2EF-2BE91C7F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96DA6-088F-4211-85E0-2C3960C2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24807-45FC-4083-839C-53107DF6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F17D1-D210-4652-82FE-82E2A4A8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4AC88-A376-4541-926B-69CDDF6B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84E4C-AA08-4161-A4BF-AE230FD1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7D46-2557-4E60-B120-3BFC2B0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12F26-9F8D-4012-ABF0-490ABCE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DD6C6-F1C8-496D-90F2-715381A8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C1B95-BFAB-4E9B-B78D-05BE59AA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719A9-B80B-4BA7-B1A0-1E945A9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A073C-5F22-4CF4-8693-1BDC2DDC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AC255-3225-42F3-B5B3-DF2D858F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2863E-562D-48DE-91F6-50F77549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58242-8F7C-4151-839C-39046472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57C71-81C1-4497-A3CF-6EEDCCDA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03F1B-0DE2-4BBE-BAEC-6904EE2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323B-55BD-45D0-BC4F-8E8BFE6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3EE0D-B468-402F-947F-1137BD48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A41D2-6C1E-47EA-8A44-18B1A69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17324-905A-4C54-BE73-849C4A33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619A4-1116-4345-8E7C-D825BF1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6776C-D624-4547-B626-51108DC0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D7D72-C5E3-41F7-A4F4-090EA0F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20969-1A15-482D-84D1-B031FED9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AE680-0D54-401E-B6D9-3FCEE51C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F583C-0770-4B70-9E19-A930E8E2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763A1-EF11-4DAE-BB14-86AE598D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A9CF-8712-4EE1-ABF6-871C6B7D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DB817-C9D7-4BA7-8E02-3152ED56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124E8-3A8A-419B-B309-CE55DC0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F075E8-1E8A-4C1D-BA17-80168DA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79C67-0B3F-498A-B765-D5F8DED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ABC2F-2CE1-43AB-97B6-96328CA0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3D3CE-1563-4721-9A08-714D7AD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FECC6-39FB-440D-9765-48CE155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BA9F1-5274-4A01-8B99-9C87ABB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6934C-3BC2-464B-8474-35D0031F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0EF01-D01C-4E1C-AC87-E673BBB7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9DC9-370D-4567-B4AE-17386497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880F4-1BA8-46CA-BE82-01419D74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158D2-7CBC-4CA9-97C2-03B80533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1F60C-6406-4FA3-AE19-5A353481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59889-2D58-4BF2-996C-49D50BBB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D5E00-058A-4D01-A920-C0D513C5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2D01F-910C-4341-8A0B-2AD15449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7B817-E619-4BFF-91ED-38841FCA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AB8CC-E053-461C-AF5C-9E1CC63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2BE1D-7C4D-46A5-982A-B9C46B2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76113-50AD-434D-BBF8-72225B4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9C3F-B86C-473D-9563-BB873158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3F694-C54A-4A52-92BB-13BD663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521C9-DD7E-4255-8032-32CCA02B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EC969-3AB4-4749-9B8D-5E86E570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9A67C-7813-43BF-B08B-BCA23383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04A68-D7FF-4661-AD8D-7640C763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F285D-E6BC-4564-B901-F9A9C73D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21FAA-2923-4C9E-874E-1F7BCF9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26F6F-D042-49D7-B33C-B691555A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0FDD6-74FA-4D68-8249-58FC6584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9FC78-E136-42FE-8DF6-027CF68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CA8-C738-4742-A67D-52E65E4E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3ED1-C274-46CB-AE49-5FC927D4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3C46C-826B-488B-87C1-27D9226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0E2E0-4998-4F2D-8AF5-F9D8C32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7AEBE-8119-4CC5-B9D7-61D6551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5628F-B9AB-4D39-97AB-379658AE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9222F-1D8E-49C9-9900-802CB5BD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80ED7-27B6-41B9-80F0-8C928C8B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D9EBA-8029-470C-B921-5CEB0657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5FB8C-07E3-42CC-9582-5B2DF4F4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EC878-6BF0-424A-8F30-5401404E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CF69D-1B0E-4150-87BE-42C258A3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D81-51D0-4CA1-BE80-555D71D5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83E13-8113-4865-9225-015C357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DA03F-2A4E-48DC-A7D2-1D9D96F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08583-E4B0-4A84-939D-1E88682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62DC4-F513-4E37-90EE-1B3CF9E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C56A6-2B72-4DFC-BAF4-FF6C32FA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49AB7-28CB-41D0-B096-9C139665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5FE9A-CD56-41AB-B321-49E29552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7F088-31D2-4E15-9E2B-B4D3FA30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576C7B-A0F4-4960-8BF0-3675BDF4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CC35A-BB3C-488F-8D6F-8A4A7773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975A-F4CF-493A-9424-BD52CF1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9F2BE-2B47-44E9-8DAC-AB0F80F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715A8-3E95-4076-AA70-5510C6FF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5F6AB-6479-4602-9264-C487957E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1E2D3-AD04-431A-AE41-41187CB0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266C2-231D-4264-BA3E-8299CCFE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841C4-CD1C-4572-872D-50985AC1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106C0-DD3C-4D9C-9875-05A410D5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67031-8739-4E41-A47F-7357B063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F9EBC-54C3-4CD1-ACBF-E372C5A2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D41C7-3C3D-47E2-BDC8-5D8CE6A0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0C13-FB7D-4F83-815B-0AF59E20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65211-3B18-4C20-9C36-531E662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E8D82-8201-427A-ADFF-B809144A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E172B-E134-4B91-91E6-68B42C5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DE187-7653-4E95-973C-9549A03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C77DEA-FC77-4A05-8147-BA3695FB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BDFF0F-FD27-4853-91C8-737C38A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EEBFA-CA17-401E-9823-B397C10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292E8-FB30-47F2-BA8B-EFBE50A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46DE1-7F9B-4E9B-8F45-71FED560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32002-869D-40BA-8BDB-3A6ECAFF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A225-272D-4A21-A8F2-5307900D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6A6AC-15B7-49CC-AA53-C35DC754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E33CD-FE1C-435E-96B7-ABC1E749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290B98-56C0-4D40-9B11-CA2AC3F7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3BC6E-12CC-41D8-9078-32B06CD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65ABF-E9E1-4B87-B084-437CB06C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ECB8E6-2DCE-4782-9DE4-9E1DA2A9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D1AEE-5DAD-49FB-A279-65132C2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7F2E5-716A-4E74-937E-0CBF81F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69E24-C8F1-442F-96EA-CC27321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27CA61-5756-4E04-820B-BE5B519D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E97F-0BC0-4875-A696-A610D478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C1BE1-5EFC-4071-AA15-A6453B76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9BDE95-D2ED-4BCB-A27F-FB93ECF2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4AAD4C-6554-4AEE-AE20-C72E5A2C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0B237-4FB3-4886-B706-ECC23016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0569E-E133-4C11-8498-35188DEE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2DD40F-7965-4CFC-9265-3304FC89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EB328E-EDE1-41C9-A7FE-28E07EC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36C656-C8D7-4787-B984-EA2C2C59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78CFF-65F8-42D4-8190-7F9B6BA9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655619-0677-412C-852D-FDDB8D5D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5E6A-8E4E-436D-9C24-944B82D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EB4D41-83E9-428B-BFF2-0FB5F53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F970BE-3D1F-44C2-AA4A-0B6B13C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024D48-BBDA-4C9D-AAB4-26793DF1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1EC893-D163-40A4-B4DD-F4C4F549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764026-61A0-4142-9B2F-F3603AF3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832BB6-3849-4592-A395-E9D95AD1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EC464A-8761-4994-A45C-09A08106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4A9F1-E02B-47A4-8BEC-78B650E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D579B4-DAEB-4BDC-BF0D-80A52B5A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32FBE-C527-4602-B9D9-7E0BE0A0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7385-6D5C-4F30-8097-4B1411CD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E88468-BD40-4952-909D-0BDC0515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673C2-B9D3-45A3-80D9-FB5968B3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67E56-44E8-4289-84BF-B9A987F1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8FD172-057E-4F99-9838-D2D1310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2AC5B6-62D9-495C-9354-A5ACF980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F2F81-E698-4053-9D6C-54EC6317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F9429-296B-4B40-A06C-B4100060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DF3409-0B96-4000-802C-3262E21C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0D6941-5C9E-4CBB-B2F6-1F2E337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C66EC9-A8DD-4AD7-AB93-B9017EE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F20D-7CBD-44AD-813D-D9224EE4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C92D47-A713-4961-B2E1-F42DBC8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70FCC-EFAE-49EB-A12A-31F4F1C1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9405E0-A869-4E38-B8AE-3C8D0128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24854E-3BF5-4A14-B6A5-0C086EA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63F90D-67F3-4F14-81E2-1E8C2A34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B53A81-DEDE-4996-9402-05FE209B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9A44C-F6D7-4B30-8292-A711757A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BC37C0-BA77-44DA-A653-7D9DDBFA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632FBF-5D82-4451-A11D-DE006359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365F45-0DAD-4D69-8D71-96CAC960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1879-3697-40EB-949E-333195BD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660E24-9F87-406E-A295-949284E4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9DEAF9-9A8E-491A-964F-C915F10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1B7994-E68B-460B-B5C8-5999A063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13241-FA0B-4AE7-9D5B-E145C166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739C3D-CE43-4140-BFC4-AF9D43A4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95344D-69D3-4F4A-B376-5157F64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216B08-9530-438A-96F0-8E371566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BB4F18-6D0A-4164-BCDD-E263A148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DB984E-EC67-4A67-9A5B-7194C63E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06E6AA-56D3-424F-B9FF-B9554757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941-223F-4257-AEB1-EFD3E6F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C265-36FB-474D-B30C-572B65A3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EB8A4E-6C8E-455E-AF9F-E0F46EDD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148F5A-140D-4309-8566-758566EE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F25A6F-BB31-48A1-B0BA-A189E972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535CEB-6CBD-4551-AD4E-0B954392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D4F660-99A1-44BE-9AFD-F8ED69FF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922B8E-02DB-4ACE-99A6-4D1511A9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B6B9B0-A1EA-4D51-A6AC-A35AE7CB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87C216-ADE8-4C65-9C1A-1E64B63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483FDF-2A76-481B-B43C-EDAFB2E6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DED66B-5D20-41B2-8363-344B87C9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FC4F-C243-409F-A13A-91635F0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132ADC-EA47-4731-948D-28246377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F93EA2-AB0B-40CD-BC1F-F661E0F2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88F735-C2B0-4F6E-A9BC-58C5447E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00DB4A-4825-453B-B448-E5CCFEE6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5E66F1-D0DB-462A-A4D3-BDDC1D4C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DB5AAC-024D-4479-A66E-59E46E4A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CEDA59-CB3D-48D8-84EF-0837C02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65B10F-61A4-41DD-AD6B-5022B46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26A738-9BDB-4CC9-89B5-FC395C2C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B65EC2-BF5F-45C7-83A7-267FAC8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BC06-B713-43CE-9065-F7D9D6D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B7F4C2-D084-435A-9182-33269A98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C77F8C-AF03-4933-8A41-3E390F0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F24EB4-BFC4-4E08-A35C-369A17BE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074BBE-2910-4F59-ACC9-ECB2D965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8A1F63-6D9D-4565-BEEB-F19291D5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30D576-95BD-4AFC-BF35-2D6437FC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1A551B-A28E-45BE-B680-2545CE17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9BEF9B-FAC3-403D-9D88-71700555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2926B7-5814-4B82-8FCA-944DB615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7556EE-455B-4E1A-8075-F3C1FE94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3889-C78D-4F20-9D64-70060DB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62081F-D781-442E-9FDA-A500687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0B63F8-36CC-48D8-B7F0-FF094B6B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F32C1D-2C69-43D4-A652-B199D4EC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8A86B4-5061-4D69-8F96-109B86E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1F5B0B-7818-444E-805D-AE2A4CD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8D6775-27A3-42BF-AEEE-D8DE2343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F5B55A-1F02-4D84-8F49-FEF7E44F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6BA72A-5FC7-45EF-8DC5-D9879FA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32994B-70D4-4819-A0F5-76489770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60BA61-1B56-4FE5-B635-C640ED88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1948-58ED-4364-BE59-A2B17D38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72219E-F885-41A3-927D-1E39AE2B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690B7F-C603-4327-8FEB-C4CC8D80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B8A8F9-F138-47DD-A4CC-61070C8C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F747DF-00B4-46B9-8655-5CD295C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2FF123-1B72-430E-BC37-DD907B7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B36486-7680-473F-8BF7-E675FE4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2C93FA-980F-41FA-8729-9EB2AFE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CBD08D-8198-4260-9377-77C4514C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989999-583C-4AA6-9C5B-C013CBB2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A9A628-43C1-4CE3-8C04-C7349EE5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3F0A-78E6-4AC0-A1B1-63DFD77F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E80C02-5388-46FE-9FB3-649C878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5F137D-E285-499C-8E41-1A52380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191ADE-3998-4985-85C7-9E913091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934E04-1946-4BA3-ADE6-8399F17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552EE2-699D-4F67-8A6C-F6976BAE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3A6792-AE09-4B94-9883-9B36B741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19592E-A7B9-41F2-BFB4-BE8BAE0F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D36F14-D3E1-41B1-9889-543A9AB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A22B8F-F0CC-4B10-847D-E0085C0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E8F1B7-D000-4B05-A9F6-D1E3062E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35EF-7387-453C-AA00-FB91438B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50841F-BB06-46A7-91C3-1498D9B7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5EE7A2-9557-41FE-8B01-B342A75E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B37694-76D4-4BFD-BCC5-FB96B59B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97A146-480D-48B3-BF27-16DEEDBD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34D33B-60E0-48A0-8D3A-39DCB27D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70849F-BD08-44C5-A456-B8D441E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6425A8-61E2-4508-A023-EAD4719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36C3FA-CEC1-4C47-9D5C-A402866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EB4FD9-FA8F-4CDB-A49D-149CCA79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7D7795-9803-4B5B-867C-2317F8D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6C90-182F-42A7-B14F-4A14D937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FA99F5-4302-4D9F-A45D-C8FDFA5F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C53AAC-8862-4A8A-AFD7-C8A55834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A7C80F-0D11-4469-A5BE-7351B506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214B-90F6-4F37-A812-C7C40AA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617D-89D1-4FDE-9C26-73E0CA23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933-0236-4F0E-BEE4-5F06BEF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C6C2-6120-4781-98A8-C593C2FF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7371-376B-49F1-9A05-7FD7981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CD6DC-3AF4-4C0A-B6A5-E52E3226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95C7-E358-4EEF-85CA-71955F5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B7EC-CDDE-4808-9F40-4F40EA6B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DFE3-711D-4670-B475-22FE52E9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22F2-4408-4B7D-8453-8323472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2F30-C575-48AB-A1ED-A5D4C5D7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CCF5-4394-4DCA-A643-267AA68A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C092-8C95-4DCE-A93C-CC1A16C5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A68-2DCB-4841-B33C-C1F8E243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ED77-FBFA-4E64-B629-10EED0EB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3AEF-712C-4E72-AE73-4E7A848F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08C74-B2FF-4370-A131-F96BA62E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5EAF-6033-497A-9BF3-961B20A8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A719-FFEC-4ED8-A12A-D8B7871B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833E-FE0A-4B4B-B36B-0F89A664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06E9C-A597-4F74-8596-7EA9FB4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F5B7-9BE0-4C7E-877C-6C97163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53A33-B48A-4E79-8BB4-DBE99579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ED21-7633-41E1-A8F8-4C7DBE5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BE8-444C-4AF5-874C-ACCE0D06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932C-1222-4331-AA51-FE4D49D1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B166-B6AD-490F-8EB4-E32F2426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84D78-1C37-433B-903B-FC97B10B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8354-1D93-4569-BB5D-A6FE160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3F84-904A-4FE8-983D-11160C1B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ACC23-CCF4-4323-A744-61FFEA7F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68B1E-0CB2-4AF4-9E29-7DC6856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9989-4708-459B-B706-4643FF2B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47895-AA93-478D-8FD0-0E32BE99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E055-5896-482A-BE45-BAD55D3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C46-F828-4E9C-8EE6-7893CFF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8ED64-C6E8-4AF5-BCC2-56A5C855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A4D6-5BDF-4911-BB77-410831EB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2DFA8-3129-46A4-85CA-B62FA7DE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74830-54D8-424D-8BDB-78AF49F9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CCB2-5828-4E5C-AC46-89D18DE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23D5-6894-464B-8509-2170ECFB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83D8B-39B2-455E-A4DE-5CEBCC2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A177E-7709-42CE-AEF6-4CAB1739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5EA4-50A0-4D13-BC4E-7AC27E5A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67B6A-3E5E-4C38-AA2A-11A8E4F4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B78-044D-4FB6-9312-D97A689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321B2-E08F-4409-8CC4-FCC65DC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0367C-C430-4808-9867-9C03D58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0785E-9BDD-40E8-9CD4-4B1AA127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32345-9D1F-4BE8-B415-9E7A800D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2D56-2B58-4350-B4B6-4F60FF20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794AF-A8FA-4D50-8BFE-31D704F4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3B4E1-4F45-4A17-B047-3DFAF78B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DCD8-6EF2-4B10-B51B-FD2FBB80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D97BA-B1FF-4054-8611-69B25791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2D406-8631-4121-A640-3E2BD377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8EC-162E-44B5-A288-6DD0200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684D8-E4D1-4577-9706-D0D063E7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72BFA-2E1B-4A91-940B-2F70B08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1E0B6-D51D-489C-BD10-BB99B27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FB47B-C1CD-49F6-AD5C-C9C0C65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57F6-0A4B-4BBF-8C1F-286BB555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8834-0A76-44C4-AC87-F1441FAB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ACDB1-4175-4112-B832-D5F987AA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3C7BA-9730-42DD-A923-9C474F17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7D6B1-A5FE-4F03-AD77-239A7DFC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CC65C-E864-4BAC-99AB-610D4B5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5FEB-5C12-4CAF-9091-E9FD19D965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9C09-425B-4BF1-B87F-58025DF01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8824-7ED9-4BBF-88CD-DB9ACF8ECE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DC43-5B28-43E8-B259-76224AD474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5BA7-69FE-45A3-923C-82DF6D7095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76AF-E188-44E0-A2B2-ED22D6A2CC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D82D-C484-4429-ABDB-24340B3303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0727-7344-47B2-A540-D46864806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39F2-8B8D-4CD7-9ED1-9896DE2B1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7BAF-80A1-4EBD-BE54-8BF017060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4E4-A05A-4D1B-9026-BCEBEDF75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8C0-ED2D-4380-913C-CC37071993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C7B-C55C-4F72-A106-33F4C5D954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29EB-FA66-4005-9EB0-11C2486EA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B341-A695-4F8C-8269-68C8084E8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4F19-CFE3-4E6D-AEA6-9C4B03EB8D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AAA5-E8CB-403F-98A7-EB37AB1B5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9E6B-266B-4787-9471-C1424D02E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369D-EC9D-4647-BA96-46CB118E9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3FE2-66AD-487D-B01D-26F1DF770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63C-F5C3-402E-862C-A9C01708D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AA0A-B557-4C4E-94B1-A0238D871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47E4-D34E-4039-989B-C0645E6C1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180-5B94-429B-9D37-3B866D295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B651-1732-4A29-A10C-ABC591224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43DE-6BA9-4156-B9F7-FCB220FB10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C60-CBD7-4C69-96FD-7A4C8AE61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9A82-A5EE-4AB7-8220-AFB458DF1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25D7-D589-4180-B499-8AB4677E9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0D9-43D7-4292-9EE2-A6E30AE53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BE3-82F8-4D29-87AE-97784BFBA3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3B59-DC95-4388-A3C5-4EBB7E4D2E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87D-0171-4DDA-B190-2F4C12247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0C30-4690-488D-A989-4CCDD9196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EC1A-87E5-481A-9803-DD28D9AB6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DC0F-864A-44ED-AF62-7809BC918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968B-6A33-4A80-9A17-69C1F398F1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2B16-4A95-47A4-92D7-14B76D7FD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6F28-1DF0-45F9-AABA-155BE63731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D2B-ABB6-42C2-B210-DB21056D84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BEB-239C-4F06-A454-51DB2B842C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987C-E633-4326-93C4-9AE1EEAF0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A157-39CF-445C-B36E-8E0C1E71A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F35B-51A2-443B-9C95-E499147EE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8AF-8A30-4184-8DF1-5BEF610714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AFD8-6CB6-4E5F-82D6-1FF17EC58B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9A12-096C-4658-96CF-1E9C09E604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F55-9228-4160-B452-2E5B480886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DEE-792E-447C-A568-C41F5FB58B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546E-B175-4EB5-B3EA-A53825FDF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09920" y="3024360"/>
            <a:ext cx="412416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6737" descr=""/>
          <p:cNvPicPr/>
          <p:nvPr/>
        </p:nvPicPr>
        <p:blipFill>
          <a:blip r:embed="rId1"/>
          <a:stretch/>
        </p:blipFill>
        <p:spPr>
          <a:xfrm>
            <a:off x="880920" y="1542960"/>
            <a:ext cx="7382160" cy="377208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6738"/>
          <p:cNvSpPr/>
          <p:nvPr/>
        </p:nvSpPr>
        <p:spPr>
          <a:xfrm>
            <a:off x="6726240" y="1539720"/>
            <a:ext cx="15908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6739"/>
          <p:cNvSpPr/>
          <p:nvPr/>
        </p:nvSpPr>
        <p:spPr>
          <a:xfrm>
            <a:off x="1332000" y="2089080"/>
            <a:ext cx="28670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6740"/>
          <p:cNvSpPr/>
          <p:nvPr/>
        </p:nvSpPr>
        <p:spPr>
          <a:xfrm>
            <a:off x="7812000" y="3197160"/>
            <a:ext cx="4190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6741"/>
          <p:cNvSpPr/>
          <p:nvPr/>
        </p:nvSpPr>
        <p:spPr>
          <a:xfrm>
            <a:off x="1701720" y="3745080"/>
            <a:ext cx="41904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6742"/>
          <p:cNvSpPr/>
          <p:nvPr/>
        </p:nvSpPr>
        <p:spPr>
          <a:xfrm>
            <a:off x="3348000" y="4292640"/>
            <a:ext cx="8193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6743"/>
          <p:cNvSpPr/>
          <p:nvPr/>
        </p:nvSpPr>
        <p:spPr>
          <a:xfrm>
            <a:off x="5724360" y="4869000"/>
            <a:ext cx="4194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15713" descr=""/>
          <p:cNvPicPr/>
          <p:nvPr/>
        </p:nvPicPr>
        <p:blipFill>
          <a:blip r:embed="rId1"/>
          <a:stretch/>
        </p:blipFill>
        <p:spPr>
          <a:xfrm>
            <a:off x="900000" y="1528920"/>
            <a:ext cx="7344000" cy="3800160"/>
          </a:xfrm>
          <a:prstGeom prst="rect">
            <a:avLst/>
          </a:prstGeom>
          <a:ln w="0">
            <a:noFill/>
          </a:ln>
        </p:spPr>
      </p:pic>
      <p:sp>
        <p:nvSpPr>
          <p:cNvPr id="1496" name="矩形 115714"/>
          <p:cNvSpPr/>
          <p:nvPr/>
        </p:nvSpPr>
        <p:spPr>
          <a:xfrm>
            <a:off x="2496960" y="4302000"/>
            <a:ext cx="23720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5715"/>
          <p:cNvSpPr/>
          <p:nvPr/>
        </p:nvSpPr>
        <p:spPr>
          <a:xfrm>
            <a:off x="2340000" y="4869000"/>
            <a:ext cx="54957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14689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67120" cy="99072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114690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7819920" cy="376236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14691"/>
          <p:cNvSpPr/>
          <p:nvPr/>
        </p:nvSpPr>
        <p:spPr>
          <a:xfrm>
            <a:off x="1182600" y="3530520"/>
            <a:ext cx="372420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4692"/>
          <p:cNvSpPr/>
          <p:nvPr/>
        </p:nvSpPr>
        <p:spPr>
          <a:xfrm>
            <a:off x="3770280" y="4595760"/>
            <a:ext cx="372420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13665" descr=""/>
          <p:cNvPicPr/>
          <p:nvPr/>
        </p:nvPicPr>
        <p:blipFill>
          <a:blip r:embed="rId1"/>
          <a:stretch/>
        </p:blipFill>
        <p:spPr>
          <a:xfrm>
            <a:off x="714240" y="1562040"/>
            <a:ext cx="7715520" cy="3733920"/>
          </a:xfrm>
          <a:prstGeom prst="rect">
            <a:avLst/>
          </a:prstGeom>
          <a:ln w="0">
            <a:noFill/>
          </a:ln>
        </p:spPr>
      </p:pic>
      <p:sp>
        <p:nvSpPr>
          <p:cNvPr id="1503" name="矩形 113666"/>
          <p:cNvSpPr/>
          <p:nvPr/>
        </p:nvSpPr>
        <p:spPr>
          <a:xfrm>
            <a:off x="1430280" y="2044800"/>
            <a:ext cx="460080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3667"/>
          <p:cNvSpPr/>
          <p:nvPr/>
        </p:nvSpPr>
        <p:spPr>
          <a:xfrm>
            <a:off x="4282920" y="3170160"/>
            <a:ext cx="395316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3668"/>
          <p:cNvSpPr/>
          <p:nvPr/>
        </p:nvSpPr>
        <p:spPr>
          <a:xfrm>
            <a:off x="4062240" y="4206960"/>
            <a:ext cx="395316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62800" cy="534348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5038560" y="1895400"/>
            <a:ext cx="362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6012000" y="1901880"/>
            <a:ext cx="361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1476360" y="2266920"/>
            <a:ext cx="657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2627280" y="2276640"/>
            <a:ext cx="65736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6300720" y="2276640"/>
            <a:ext cx="65736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1692360" y="3933720"/>
            <a:ext cx="3906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3995640" y="3933720"/>
            <a:ext cx="3906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6012000" y="3881520"/>
            <a:ext cx="25048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1620720" y="4498920"/>
            <a:ext cx="657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9"/>
          <p:cNvSpPr/>
          <p:nvPr/>
        </p:nvSpPr>
        <p:spPr>
          <a:xfrm>
            <a:off x="3924360" y="4498920"/>
            <a:ext cx="657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0"/>
          <p:cNvSpPr/>
          <p:nvPr/>
        </p:nvSpPr>
        <p:spPr>
          <a:xfrm>
            <a:off x="2556000" y="4989600"/>
            <a:ext cx="857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1"/>
          <p:cNvSpPr/>
          <p:nvPr/>
        </p:nvSpPr>
        <p:spPr>
          <a:xfrm>
            <a:off x="5969160" y="4686480"/>
            <a:ext cx="2590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2"/>
          <p:cNvSpPr/>
          <p:nvPr/>
        </p:nvSpPr>
        <p:spPr>
          <a:xfrm>
            <a:off x="5167440" y="5425920"/>
            <a:ext cx="3902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3"/>
          <p:cNvSpPr/>
          <p:nvPr/>
        </p:nvSpPr>
        <p:spPr>
          <a:xfrm>
            <a:off x="5867280" y="5570640"/>
            <a:ext cx="27813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3905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0040" cy="48484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3907"/>
          <p:cNvSpPr/>
          <p:nvPr/>
        </p:nvSpPr>
        <p:spPr>
          <a:xfrm>
            <a:off x="2585880" y="1276200"/>
            <a:ext cx="1905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3908"/>
          <p:cNvSpPr/>
          <p:nvPr/>
        </p:nvSpPr>
        <p:spPr>
          <a:xfrm>
            <a:off x="6364440" y="1292400"/>
            <a:ext cx="7045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3909"/>
          <p:cNvSpPr/>
          <p:nvPr/>
        </p:nvSpPr>
        <p:spPr>
          <a:xfrm>
            <a:off x="3049560" y="2031840"/>
            <a:ext cx="7048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3910"/>
          <p:cNvSpPr/>
          <p:nvPr/>
        </p:nvSpPr>
        <p:spPr>
          <a:xfrm>
            <a:off x="1187280" y="2387520"/>
            <a:ext cx="1209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3911"/>
          <p:cNvSpPr/>
          <p:nvPr/>
        </p:nvSpPr>
        <p:spPr>
          <a:xfrm>
            <a:off x="8107200" y="4067280"/>
            <a:ext cx="3524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2288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44080" cy="568656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22882"/>
          <p:cNvSpPr/>
          <p:nvPr/>
        </p:nvSpPr>
        <p:spPr>
          <a:xfrm>
            <a:off x="6116760" y="1130400"/>
            <a:ext cx="3427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2883"/>
          <p:cNvSpPr/>
          <p:nvPr/>
        </p:nvSpPr>
        <p:spPr>
          <a:xfrm>
            <a:off x="8139240" y="2900520"/>
            <a:ext cx="3427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84"/>
          <p:cNvSpPr/>
          <p:nvPr/>
        </p:nvSpPr>
        <p:spPr>
          <a:xfrm>
            <a:off x="8182080" y="5200560"/>
            <a:ext cx="342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21857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9800" cy="591516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21858"/>
          <p:cNvSpPr/>
          <p:nvPr/>
        </p:nvSpPr>
        <p:spPr>
          <a:xfrm>
            <a:off x="7802640" y="749160"/>
            <a:ext cx="4190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1859"/>
          <p:cNvSpPr/>
          <p:nvPr/>
        </p:nvSpPr>
        <p:spPr>
          <a:xfrm>
            <a:off x="7740720" y="3573360"/>
            <a:ext cx="4190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2083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58240" cy="422928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120835" descr=""/>
          <p:cNvPicPr/>
          <p:nvPr/>
        </p:nvPicPr>
        <p:blipFill>
          <a:blip r:embed="rId2"/>
          <a:stretch/>
        </p:blipFill>
        <p:spPr>
          <a:xfrm>
            <a:off x="2057400" y="5037120"/>
            <a:ext cx="6170760" cy="1712880"/>
          </a:xfrm>
          <a:prstGeom prst="rect">
            <a:avLst/>
          </a:prstGeom>
          <a:ln w="0">
            <a:noFill/>
          </a:ln>
        </p:spPr>
      </p:pic>
      <p:pic>
        <p:nvPicPr>
          <p:cNvPr id="1463" name="图片 120836" descr=""/>
          <p:cNvPicPr/>
          <p:nvPr/>
        </p:nvPicPr>
        <p:blipFill>
          <a:blip r:embed="rId3"/>
          <a:stretch/>
        </p:blipFill>
        <p:spPr>
          <a:xfrm>
            <a:off x="1476360" y="6237360"/>
            <a:ext cx="380880" cy="323640"/>
          </a:xfrm>
          <a:prstGeom prst="rect">
            <a:avLst/>
          </a:prstGeom>
          <a:ln w="0">
            <a:noFill/>
          </a:ln>
        </p:spPr>
      </p:pic>
      <p:pic>
        <p:nvPicPr>
          <p:cNvPr id="1464" name="图片 120837" descr=""/>
          <p:cNvPicPr/>
          <p:nvPr/>
        </p:nvPicPr>
        <p:blipFill>
          <a:blip r:embed="rId4"/>
          <a:stretch/>
        </p:blipFill>
        <p:spPr>
          <a:xfrm>
            <a:off x="3995640" y="6308640"/>
            <a:ext cx="390600" cy="333360"/>
          </a:xfrm>
          <a:prstGeom prst="rect">
            <a:avLst/>
          </a:prstGeom>
          <a:ln w="0">
            <a:noFill/>
          </a:ln>
        </p:spPr>
      </p:pic>
      <p:pic>
        <p:nvPicPr>
          <p:cNvPr id="1465" name="图片 120838" descr=""/>
          <p:cNvPicPr/>
          <p:nvPr/>
        </p:nvPicPr>
        <p:blipFill>
          <a:blip r:embed="rId5"/>
          <a:stretch/>
        </p:blipFill>
        <p:spPr>
          <a:xfrm>
            <a:off x="6084720" y="6308640"/>
            <a:ext cx="371520" cy="3240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20839"/>
          <p:cNvSpPr/>
          <p:nvPr/>
        </p:nvSpPr>
        <p:spPr>
          <a:xfrm>
            <a:off x="7802640" y="749160"/>
            <a:ext cx="4190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9809" descr=""/>
          <p:cNvPicPr/>
          <p:nvPr/>
        </p:nvPicPr>
        <p:blipFill>
          <a:blip r:embed="rId1"/>
          <a:stretch/>
        </p:blipFill>
        <p:spPr>
          <a:xfrm>
            <a:off x="890640" y="1004760"/>
            <a:ext cx="7362720" cy="484848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119810" descr=""/>
          <p:cNvPicPr/>
          <p:nvPr/>
        </p:nvPicPr>
        <p:blipFill>
          <a:blip r:embed="rId2"/>
          <a:stretch/>
        </p:blipFill>
        <p:spPr>
          <a:xfrm>
            <a:off x="1438200" y="5916600"/>
            <a:ext cx="6058080" cy="46656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9811"/>
          <p:cNvSpPr/>
          <p:nvPr/>
        </p:nvSpPr>
        <p:spPr>
          <a:xfrm>
            <a:off x="2611440" y="1549440"/>
            <a:ext cx="23814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9812"/>
          <p:cNvSpPr/>
          <p:nvPr/>
        </p:nvSpPr>
        <p:spPr>
          <a:xfrm>
            <a:off x="6156360" y="1557360"/>
            <a:ext cx="20289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9813"/>
          <p:cNvSpPr/>
          <p:nvPr/>
        </p:nvSpPr>
        <p:spPr>
          <a:xfrm>
            <a:off x="1373040" y="2104920"/>
            <a:ext cx="5716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9814"/>
          <p:cNvSpPr/>
          <p:nvPr/>
        </p:nvSpPr>
        <p:spPr>
          <a:xfrm>
            <a:off x="2887560" y="2098800"/>
            <a:ext cx="325764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9815"/>
          <p:cNvSpPr/>
          <p:nvPr/>
        </p:nvSpPr>
        <p:spPr>
          <a:xfrm>
            <a:off x="7093080" y="2637000"/>
            <a:ext cx="8190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9816"/>
          <p:cNvSpPr/>
          <p:nvPr/>
        </p:nvSpPr>
        <p:spPr>
          <a:xfrm>
            <a:off x="6804000" y="3213000"/>
            <a:ext cx="15526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9817"/>
          <p:cNvSpPr/>
          <p:nvPr/>
        </p:nvSpPr>
        <p:spPr>
          <a:xfrm>
            <a:off x="1393920" y="3770280"/>
            <a:ext cx="68198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9818"/>
          <p:cNvSpPr/>
          <p:nvPr/>
        </p:nvSpPr>
        <p:spPr>
          <a:xfrm>
            <a:off x="1332000" y="4292640"/>
            <a:ext cx="24858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9819"/>
          <p:cNvSpPr/>
          <p:nvPr/>
        </p:nvSpPr>
        <p:spPr>
          <a:xfrm>
            <a:off x="7812000" y="4869000"/>
            <a:ext cx="5716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9820"/>
          <p:cNvSpPr/>
          <p:nvPr/>
        </p:nvSpPr>
        <p:spPr>
          <a:xfrm>
            <a:off x="1332000" y="5411880"/>
            <a:ext cx="57132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9821"/>
          <p:cNvSpPr/>
          <p:nvPr/>
        </p:nvSpPr>
        <p:spPr>
          <a:xfrm>
            <a:off x="5364000" y="5425920"/>
            <a:ext cx="26672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9822"/>
          <p:cNvSpPr/>
          <p:nvPr/>
        </p:nvSpPr>
        <p:spPr>
          <a:xfrm>
            <a:off x="1187280" y="5950080"/>
            <a:ext cx="585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878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72440" cy="318132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8786"/>
          <p:cNvSpPr/>
          <p:nvPr/>
        </p:nvSpPr>
        <p:spPr>
          <a:xfrm>
            <a:off x="6804000" y="3500280"/>
            <a:ext cx="4190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776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48880" cy="550548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7762"/>
          <p:cNvSpPr/>
          <p:nvPr/>
        </p:nvSpPr>
        <p:spPr>
          <a:xfrm>
            <a:off x="4040280" y="3606840"/>
            <a:ext cx="89532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7763"/>
          <p:cNvSpPr/>
          <p:nvPr/>
        </p:nvSpPr>
        <p:spPr>
          <a:xfrm>
            <a:off x="5940360" y="4149720"/>
            <a:ext cx="12477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7764"/>
          <p:cNvSpPr/>
          <p:nvPr/>
        </p:nvSpPr>
        <p:spPr>
          <a:xfrm>
            <a:off x="1619280" y="4724280"/>
            <a:ext cx="502920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7765"/>
          <p:cNvSpPr/>
          <p:nvPr/>
        </p:nvSpPr>
        <p:spPr>
          <a:xfrm>
            <a:off x="2690640" y="5815080"/>
            <a:ext cx="51627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1:1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